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0D5-64B0-4064-8A2B-C12B3A6C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7C7-160E-44AA-9BA5-95ACF7F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EAB-22F8-456B-9EB5-7F260FD5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75E-3D1A-4A3C-8B48-CDBD97DF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9FC0-CFF7-4FD2-9223-8F0BCAB6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9FD6-1725-4421-9773-E46F825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B229-7C4A-4813-B84B-D77F909C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791-AA08-4866-AE3A-91E6D4F5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69B-3188-484D-91BB-D9A0A3FB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8537-5A66-4A80-BE3A-8DA0818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74EE-9227-4B81-823B-B184D3A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A93-F444-452C-8929-CAD91F0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44EA-AED0-4F15-9A54-094C356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A15F-01A7-4C2B-941F-9C2FDE5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9B47-8E06-4E3C-8812-A15A5DD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F4AE-F07A-4F72-B0B6-D3CB5FFF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B714-8AE9-4DC1-9212-95B5A3C7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EB6-40DE-4475-899F-C530BA16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390-BE4A-4E7C-A8F5-465F1BAC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737-46CE-47C7-832A-01DA2DB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763-C18E-415D-83DA-DE54DE70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7A3-E261-4389-9A77-01E972A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946-C7D9-4A75-8729-A349E99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3AD-2838-4DC2-9444-F4193E2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058A-FB04-4321-A6B6-85CEDA9A3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A53B-1676-420C-9A4F-DFE55D3CA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3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орудование рабочего места в столярной мастерской.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84720" y="4724280"/>
            <a:ext cx="446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ченко Н. 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00640" cy="642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00680" cy="613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5191200" cy="641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243320" cy="6202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41960" cy="633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00280" y="189000"/>
            <a:ext cx="4313160" cy="627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0800000">
            <a:off x="324000" y="6092640"/>
            <a:ext cx="552240" cy="40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Литератур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хнология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учебник для 5 класса /Под ред. В. Д. Симоненк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нциклопедия работ по дерев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Альберт Джексон; пер. с английского Ю. Су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ы столярного дел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инструменты, материалы, приёмы работ, Т. Б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СОШ №45 г. Белгор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dovik45.ucoz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9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ее мест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приспособленное для выполнения учебно-трудового задания, размещения работающего, материалов, инструментов и оборудования, готовой прод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924280"/>
            <a:ext cx="45752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бочая   зон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пространство   высотой   до   2   м   над   уровнем пола  и расстояние досягаемости рук в пределах рабочего места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3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Основное оборудование рабочего места в школьной мастерской —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верстак: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Столярный верстак состоит и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 подверстачь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крышки 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отверстиями в которые вставляют клинь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 лот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 пере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 заднего зажим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7 выдвижных или поворотных пальце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448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50767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ботать у верстака следует стоя, и лишь некоторые виды работ можно выполнять сидя возле него на стуле. Высота верстака должна соответствовать росту уче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веряют это так: нужно встать около верстака, опустить руки вниз и положить на его крышку ладони. Если при этом не требуется наклоняться или сгибать руки, значит, высота верстака соответствует вашему рос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767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789360" cy="323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74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Пере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назначен для закрепления заготов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Отверстия с клинь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предназначены для упора и крепления заготовок при строг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 лот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ном крышкой верстака и брусками обвязки, размещают инструмент.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Задний зажим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тся для крепления заготовок при строгании и распиливании.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Выдвижные или поворотные пальц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лужат для опоры длинномерных заготовок при их строга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2519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Рабочее место комплектуется набором инструментов.</a:t>
            </a:r>
            <a:br>
              <a:rPr sz="40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1" action="ppaction://hlinksldjump"/>
              </a:rPr>
              <a:t>Рубано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2" action="ppaction://hlinksldjump"/>
              </a:rPr>
              <a:t>Моло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3" action="ppaction://hlinksldjump"/>
              </a:rPr>
              <a:t>Ножо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4" action="ppaction://hlinksldjump"/>
              </a:rPr>
              <a:t>Кле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5" action="ppaction://hlinksldjump"/>
              </a:rPr>
              <a:t>Стамес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ff"/>
                </a:solidFill>
                <a:uFillTx/>
                <a:latin typeface="Times New Roman"/>
                <a:hlinkClick r:id="rId6" action="ppaction://hlinksldjump"/>
              </a:rPr>
              <a:t>Линей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572000" y="2349360"/>
            <a:ext cx="40384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боту выполняют в специальной одежде: халатах, или фартуках. При работе соблюдают правила ухода за верстаком.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280" y="1197000"/>
            <a:ext cx="49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регать  крышку  верстака  от  повреждений  режущими инструмен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закручивать сильно передний и задний зажимы верста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 ударять  молотком   по  крышке  верстака   и   зажим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инья   в   отверстия   верстака   забивать   только   киян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рабочем месте не должны находиться лишние предметы и ненужные инстру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Соблюдайте правила внутреннего распорядка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ть и оставлять рабочее место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работой проверить состояние рабочего места и инструментов. Обнаружив не исправные инструменты сообщи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 в  спецодежде,   имейте   при  себе  дневник, тетрадь, резинку, карандаш, ручк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чие инструменты на столярном верстаке кладите в лоток режущей частью от себя, на слесарном и уни­версальном — так, чтобы ими было удобно пользов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кладите тяжелые предметы на край верстака. Следите за тем,  чтобы  режущие части  инструментов не свисали с верста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ботайте только исправным и остро заточенным ин­струментом, не отвлекайтесь во время работы, контро­лируйте ее выполн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ого соблюдайте установленные для каждого вида работы правила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случае недомогания или получения травмы немедленно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работы очистите инструменты и поместите их в отведенные для них места, уберите рабочее место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6:02:37Z</dcterms:created>
  <dc:creator>Московченко</dc:creator>
  <dc:description/>
  <dc:language>en-US</dc:language>
  <cp:lastModifiedBy>XTreme</cp:lastModifiedBy>
  <dcterms:modified xsi:type="dcterms:W3CDTF">2009-06-01T09:42:17Z</dcterms:modified>
  <cp:revision>8</cp:revision>
  <dc:subject/>
  <dc:title>Оборудование рабочего места в столярной мастерской.</dc:title>
</cp:coreProperties>
</file>