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143-A5BD-4699-829D-4AA6D805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0DC-CC61-4E55-95E0-F70F2594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0A2-C556-4BF8-ABD5-FD9D128B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9CE2-947B-4751-B90A-852BDE02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B893-3671-487B-8795-E44A5AC4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0C69-A322-406E-9E55-2A3751B1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E2F0-2ED5-4DEA-983A-57A8133B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E958-060E-4DCC-9B45-7B4423F5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E417-478E-46EA-BA96-FEC252E8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B3A2-C0C3-42BF-B1EB-CB3A7BEA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9C61-C265-486D-A103-679E6B8D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0BD-A2ED-44B6-BB01-CC64BD6E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9C4F-8DE1-4B80-B3AE-133D71AA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2AAA-27C2-4AD9-A9A0-EE3179EB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139F-DE0D-4404-87E0-651A9096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6BCF-2768-4F09-9466-C2EDFA1D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9933-9382-447A-A330-34C786DA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03C-5817-40CE-A9C9-39FB7CD6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5976-3043-41F8-9B7A-5034AE67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0286-01C0-49B0-A633-CB693466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2FF-6B6A-43F2-9276-149773FA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9D0-33B6-4A5C-A7AC-986BCAA1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C0B-3848-4E2F-8C7C-E7BC98A2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6C3-4867-4F93-BE5B-40921039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CED2-F291-4503-850F-C5DB0817CED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E19E-600C-459F-9DEC-33D078F33CFE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 rot="21279000">
            <a:off x="971640" y="1988640"/>
            <a:ext cx="720072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струменты для строг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724000" y="5013360"/>
            <a:ext cx="3240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Выполнил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ученик 6 в класс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Агаханов Мура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11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5400" y="4508280"/>
            <a:ext cx="822636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МОУ СОШ №45 г. Белгор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Электрический рубано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Фугано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азы и гребк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Шлифти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ензубел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7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лектрический рубан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788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Принцип действия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Основная деталь любого электрического рубанка - вращающийся барабан с закрепленными на нем ножами. А так как древесина по своей природе имеет неоднородную структуру, то для того чтобы обрабатываемая поверхность получалась гладкой, электромотор, вращающий барабан, должен быть достаточно мощным (от 580 до 900 Вт) и иметь скорость более 10 000 оборотов в минуту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Вращательное движение от электромотора к барабану передается с помощью зубчатого приводного ремня, а поскольку время от времени он изнашивается и требует замены, его располагают под боковым съемным кожухом. Другой съемный кожух над мотором открывает доступ к угольным электрическим щеткам. Плавное увеличение скорости вращения при включении и электронное поддержание постоянной скорости вращения практически полностью исключают перегрузку электромотор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084720" y="4508640"/>
            <a:ext cx="2772000" cy="2192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588000" y="1341360"/>
            <a:ext cx="2016360" cy="169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43000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5543640" cy="1920960"/>
          </a:xfrm>
          <a:prstGeom prst="rect">
            <a:avLst/>
          </a:prstGeom>
          <a:solidFill>
            <a:srgbClr val="6b6b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Рубан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3132000" cy="2084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551640" y="2276640"/>
            <a:ext cx="2592360" cy="1944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2916000" cy="2432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1908000" y="2133720"/>
            <a:ext cx="2592720" cy="1785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987640" y="4159080"/>
            <a:ext cx="28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23000">
    <p:cover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2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7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7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70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Фуганок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3564000" cy="1789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188040" y="260280"/>
            <a:ext cx="2470320" cy="3456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5280" y="2492280"/>
            <a:ext cx="5184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aeaea"/>
                </a:solidFill>
                <a:latin typeface="Arial"/>
              </a:rPr>
              <a:t>Фуганок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служит для окончательной обработки древесины. Его используют тогда, когда возникает необходимость выровнять поверхность большого размера, чего нельзя сделать, прибегнув к рассмотренным выше разновидностям рубанков. Такое его свойство вызвано тем, что он имеет в длину около 70 см, то есть примерно в три раза длиннее обычного рубанка. Длина ножа фуганка составляет 200 мм, ширина — 65 мм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Более короткие заготовки древесины фугуют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полуфуганком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, имеющим более короткий корпус. У фуганка и полуфуганка в передней части сверху корпуса установлена деревянная пробка, по которой ударяют киянкой для выбивания клина с ножом из гнезда. У таких инструментов нож выходит заподошву примерно на 1 мм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42000">
    <p:newsflash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Фуган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4176720" cy="2448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076720" y="1197000"/>
            <a:ext cx="3888000" cy="2755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439720" cy="3228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5580000" y="4365720"/>
            <a:ext cx="2428920" cy="21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500"/>
                            </p:stCondLst>
                            <p:childTnLst>
                              <p:par>
                                <p:cTn id="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Пазы и греб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537200"/>
            <a:ext cx="485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Пазы и гребни на кромках или пластах деталей выбирают с помощью грунтубеля. Этот инструмент особенно хорош для выборки и зачистки трапецевидного паза ('ласточкин хвост'). Желобки на деревянных деталях выбирают при помощи галтели - подошва ее колодки имеет выпуклую форму, а вот калевка с ее многоступенчатой подошвой колодки и сменными ножами различных профилей - это инструмент скорее профессиональный, вряд ли он вам потребуется. Тем более, что украшаемые с помощью калевки различные декоративные рейки обычно широко представлены в продаже - это продукт механического производств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140360" y="4599000"/>
            <a:ext cx="4248000" cy="2259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3672000" cy="264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35000"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480"/>
                            </p:stCondLst>
                            <p:childTnLst>
                              <p:par>
                                <p:cTn id="1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980"/>
                            </p:stCondLst>
                            <p:childTnLst>
                              <p:par>
                                <p:cTn id="1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980"/>
                            </p:stCondLst>
                            <p:childTnLst>
                              <p:par>
                                <p:cTn id="1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Шлифт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3141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Шлифтик предназначен для зачистки строганных поверхностей на участках с пороками строения древесины. Выглядит он как укороченный рубанок в двойным ножом, установленным круче, чем у обычного рубанка. Им можно снять очень тонкую стружку на поверхности - после склеивания деталей. Используется также для снятия провесов, угловых соединений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333520" cy="1923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285732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32000">
    <p:cover dir="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Arial"/>
              </a:rPr>
              <a:t>Зензубе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4211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Зензубель и его близкий "родственник" фальцгебель имеют ступенчатую подошву колодки. Эти инструменты могут очень понадобиться застройщику в том случае, когда купленные оконные рамы окажутся сделанными коряво, грубо (это случается нередко). В таком случае рамы лучше разобрать, тем более, что они чаще всего не склеены, и полости прострогать, зачистить наждачной бумагой. А вот для обработки четвертей, в которые, собственно, вставляются стекла, и могут потребоваться зензубель или фальцгебель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020000" y="476280"/>
            <a:ext cx="1871640" cy="1925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508720" y="4227480"/>
            <a:ext cx="3467160" cy="24163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2032200" cy="1295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427640" y="1484280"/>
            <a:ext cx="187308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34000">
    <p:checker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5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5:09:21Z</dcterms:created>
  <dc:creator>Агаханов</dc:creator>
  <dc:description/>
  <dc:language>en-US</dc:language>
  <cp:lastModifiedBy>Московченко</cp:lastModifiedBy>
  <dcterms:modified xsi:type="dcterms:W3CDTF">2009-05-09T10:49:05Z</dcterms:modified>
  <cp:revision>15</cp:revision>
  <dc:subject>6 класс</dc:subject>
  <dc:title>Инструменты для строгания.</dc:title>
</cp:coreProperties>
</file>