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078-64B1-46C0-955C-F3CAE428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B2E-E08C-4741-97AF-9A85BFFD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26F-CBA8-43AA-B712-91923903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E11-EEAF-45FC-A947-3EB2C1FD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5F5C-09A8-455F-8D44-8BB3AD9F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6D68-1BA0-4E8A-AC66-7F8E457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E5E4-6B2D-4220-BE0F-3370AB5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6FD-4B70-4BD1-AC85-3EED5C2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EE8-6B95-4780-91D9-4EE53FD8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F3B1-9A34-458E-BEE2-1595B12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610-F5D3-4D8C-B45C-232AD5A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E38-B3C3-450F-A81C-20B1DEB5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B9F1-A285-4435-9B96-96303B1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9E7-57C7-4F0A-83BB-9E7E51F7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A949-EFD9-41C0-975D-7AFD77B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87F-3574-4CBE-BD7D-9B6DAADC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6DFD-1868-4ECD-8ABF-2015C0B3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17F-C8F4-40B3-86A2-E17FAB4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B56-61EF-4072-B9F3-26C70A4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046-6DC2-4BA5-A6D2-2E5A7C4A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1FA-3B15-4EA5-B4CD-5A751DA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2D9-B308-4429-9091-44A036F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1C4-0A6D-4390-BB52-601BF75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CEB-F62B-4E17-8E95-3FDBF59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770-BA5F-4463-8D5C-0A88FDFC767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A5F-4397-4020-AD91-9E93278874C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17520" y="2127240"/>
            <a:ext cx="824076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изготовления измерительного инструмента «Эксцентриковый сжим для лобзика» я взял остаток полосы фанеры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 от упаковочного ящика. Готовые детали: болт, гайка. Остатки лака и кисточка после ремо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ДО НАЧАЛА РАБОТЫ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иведите в порядок свою одежду, застегните или завяжите обшлага,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укавов, наденьте головной убор (девочки должны убрать волосы под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косынку, подвязанную без свисающих концов)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верьте исправность пускового устройства, ограждений станка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оставьте ноги на деревянную решетку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Не касайтесь электропроводов и токоведущих частей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электрооборудования - можете попасть под напряжение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Уберите со стола станка все посторонние предметы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одготовьте режущий и измерительный инструмент, зажимное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испособление, заготовки, крючок для удаления стружки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ВО ВРЕМЯ РАБОТЫ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.Надежно закрепите в зажимном приспособлении (в машинах или ручных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тисках, кондукторе и т.д.) заготовку, проверьте правильность и прочность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крепления. Помните, что при сверлении нельзя удерживать заготовку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укой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.Установите, надежно закрепите сверло в патроне, шпинделе станка ил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ереходной втулке, проверьте правильность и прочность крепления. Помните, что устанавливать и снимать сверло во время вращения шпинделя запрещается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Шпиндель и патрон не должны иметь выступающих частей. Шпиндель и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атрон следует ограждать телескопической трубкой или защитным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козырьком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Если нет защитного козырька, то при сверлении хрупких металло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наденьте защитные очки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Сверло подводите к заготовке плавно, без рывков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Во время работы запрещается близко наклониться к станку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облокачиваться на него, оставлять без присмотра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7.Нельзя наносить охлаждающую жидкость тампонами или концами, так</a:t>
            </a: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как сверло может намотать их на себя и захватить пальцы работающего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8. Для смены заготовки, сверла, удаления стружки следует остановить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станок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9.Убирать стружку со стола разрешается только крючками и щеткой сметкой. Сметать руками или сдувать стружку категорически запрещается, так как можно порезать руки или засорить глаза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0.Переводите ремень с одной ступени шкива на другую можно только после остановки станка и электродвигателя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бестоимость рассчитывается по формул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=С1+С2+А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имость коммунальных услуг не учитывали, так-как работу производили в школьной мастерской.Так как мы не приобретали оборудование, а лишь его использовали, то мы взяли амортизационные отчисления (Ао) состави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0,05% = 2287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0,05% = 114,36 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бестоимость издел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 = С1+С2+Ао = 4+49,20+23,30=</a:t>
            </a:r>
            <a:r>
              <a:rPr b="0" i="1" lang="ru-RU" sz="2800" spc="-1" strike="noStrike">
                <a:solidFill>
                  <a:srgbClr val="6bb1c9"/>
                </a:solidFill>
                <a:latin typeface="Times New Roman"/>
              </a:rPr>
              <a:t>76,50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лие изготовлено из материалов, которые легко утилизируются. Фанера может быть переработана в сырьё для изготовления ДВП, ДСП или быстро перегниёт. Металлические детали можно переплавить. Таким образом, изделия можно считать экологическим чистым с точки зрения утилизации (исключения составляют лакокрасочные материал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050560" y="5157360"/>
            <a:ext cx="5689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 хватает сил у вас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Есть надёжный сжим у на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2124000" y="148428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ект «Эксцентриковый сжим для лобзика» имеет практическое значение. С помощью этого изделия легко и просто можно сжать концы дуги ручного лобзика для заправки пилки.  Эксцентриковый сжим напоминает малку и может использоваться как этот инструм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Дидактический материал по трудовому обучению» В.И.Коваленко, В.В.Куленён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Пионер- умелец», Л. А. Ерлыки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Технология обработки древесины», Карабанов И. 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Технология обработки металлов», Е. М. Муравьё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Технология 6 класс», Симоненко В. Д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Технология 7 класс», Симоненко В. Д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08120" indent="-5716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Изготовление инструментов в школьных мастерских», Семенихин В.П., Издательство «Просвещение» 1987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900"/>
                            </p:stCondLst>
                            <p:childTnLst>
                              <p:par>
                                <p:cTn id="5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00"/>
                            </p:stCondLst>
                            <p:childTnLst>
                              <p:par>
                                <p:cTn id="5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935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900"/>
                            </p:stCondLst>
                            <p:childTnLst>
                              <p:par>
                                <p:cTn id="5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50"/>
                            </p:stCondLst>
                            <p:childTnLst>
                              <p:par>
                                <p:cTn id="5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ие затруднения вызывает у младших школьников зарядка лобзиков пилками. Чтобы упростить эту операцию, я сделал приспособление, которое сжимает концы дуги --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эксцентриковый сжи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осле закрепления пилки приспособление снимают, и концы дуги, стремясь раздвинуться, натягивают пилку. Эксцентриковый сжим напоминает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мал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может использоваться как этот инструм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жимы для лобзиков могут бы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аллическ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еревя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мбинирова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Рычаг с эксцентриком подвижен и обеспечивает сжатие двух деталей. Эксцентрик может быть овальным или многогранным. Щечки (накладки) обеспечивают фиксацию сжимаемых деталей, они неподвиж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древнейших времен люди сталкивались с необходимостью сжимать упругие изделия (пружины, упругую древесину, крепления обручей в бочке).  История не сохранила имя ученого, который изобрел сжим-эксцентрик, возможно в древности этот инструмент имел совсем другое название. В настоящее время сжимы используются в автотехнике (сжимы для пружин и амортизаторов), съемники подшипников вращающихся деталей и т.д. По мере развития декоративной обработки древесины ручным лобзиком возникла проблема установки пилок в упругие дуги. Возможно это стало причиной изобретения сжима для лобз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Безымянный копия.jpg"/>
          <p:cNvPicPr/>
          <p:nvPr/>
        </p:nvPicPr>
        <p:blipFill>
          <a:blip r:embed="rId2"/>
          <a:stretch/>
        </p:blipFill>
        <p:spPr>
          <a:xfrm>
            <a:off x="457200" y="1784520"/>
            <a:ext cx="82296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Безымянный2 копия.jpg"/>
          <p:cNvPicPr/>
          <p:nvPr/>
        </p:nvPicPr>
        <p:blipFill>
          <a:blip r:embed="rId2"/>
          <a:stretch/>
        </p:blipFill>
        <p:spPr>
          <a:xfrm>
            <a:off x="395280" y="1773360"/>
            <a:ext cx="82296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ксцентриковый сжим используется для сжатия дуг лобзика, тем самым облегчает зарядку пилки в лобз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делие состоит из пяти деталей, представленных в документ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удобства вынимания рычага в накладках просверлить полуотверс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верхность изделия покрывают лаком  или крас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лие должно бы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ёгким, точным и безопас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раб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стойчиво при контакте с влажными, твердыми и острыми предмет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Эстетич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доб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ильным при эксплуатации деть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5-8 кла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ост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ешев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ри изготовле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лие должно бы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тилизируем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т.е. безвредно использоваться  после полного выхода их эксплуатаци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рлильный  станок «Корвет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ёрла ø 6 ø10ø 25, зенк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жовка по дереву, по металл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стаки, тис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шпи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ка, штангенциркуль, карандаш, угольник, цирку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ло, струбц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ак паркетный ПФ-2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лифовальная шкур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т М 6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йка М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нер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пособление для распили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ба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сарный молот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7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2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9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1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95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85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5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4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8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7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350"/>
                            </p:stCondLst>
                            <p:childTnLst>
                              <p:par>
                                <p:cTn id="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5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7:01:16Z</dcterms:created>
  <dc:creator>алла</dc:creator>
  <dc:description/>
  <dc:language>en-US</dc:language>
  <cp:lastModifiedBy>Trudovik45</cp:lastModifiedBy>
  <dcterms:modified xsi:type="dcterms:W3CDTF">2012-05-11T04:09:12Z</dcterms:modified>
  <cp:revision>9</cp:revision>
  <dc:subject/>
  <dc:title>Эксцентриковый сжим для лобзика</dc:title>
</cp:coreProperties>
</file>