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C093-FCB1-42D9-9A40-6C2055EEA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93E3-9673-4B53-80F9-E603DFA69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D63F-EF68-40B7-8667-506E125F0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4D9B-F38E-4414-90ED-379A6B4AF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F06A-BC34-44FC-BF9B-61EA0D7E8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EBB2-6D68-47D2-AD45-7D3FAA25C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BF30-2594-4B91-B6D5-CE6041BC5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1FDD-27B3-4ECE-9844-C9FFC376A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C62C-F822-48A0-BEFC-621C95851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2452-B2C2-499F-BDB8-127FBE9F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FCA1-1B5A-4F7F-943C-EA56DA29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5399-AB19-4294-A2C6-0786DB50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trudovik45.ucoz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FDC86-16C4-4A23-BCD9-DD36E95EFB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МОУ СОШ №45 г. Белгор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7720" y="205740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Georgia"/>
              </a:rPr>
              <a:t>Технологи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Georgia"/>
              </a:rPr>
              <a:t>Учитель:</a:t>
            </a: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 Московченк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         </a:t>
            </a: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Николай Николае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trudovik45.ucoz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6840" y="456840"/>
            <a:ext cx="441972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Кроме основных движений сверлильный станок имеет </a:t>
            </a:r>
            <a:r>
              <a:rPr b="0" lang="ru-RU" sz="2400" spc="-1" strike="noStrike" u="sng">
                <a:solidFill>
                  <a:srgbClr val="ff3300"/>
                </a:solidFill>
                <a:uFillTx/>
                <a:latin typeface="Georgia"/>
              </a:rPr>
              <a:t>вспомогательное движение – это перемещение шпиндельной бабки вдоль колонки</a:t>
            </a: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 для установки нужного расстояния между шпинделем и станиной в соответствии с высотой заготов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Scan10100"/>
          <p:cNvPicPr/>
          <p:nvPr/>
        </p:nvPicPr>
        <p:blipFill>
          <a:blip r:embed="rId1"/>
          <a:stretch/>
        </p:blipFill>
        <p:spPr>
          <a:xfrm>
            <a:off x="4941720" y="457200"/>
            <a:ext cx="391824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trudovik45.ucoz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Georgia"/>
              </a:rPr>
              <a:t>Кинематическая схема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– </a:t>
            </a:r>
            <a:r>
              <a:rPr b="0" lang="ru-RU" sz="3200" spc="-1" strike="noStrike">
                <a:solidFill>
                  <a:srgbClr val="0000ff"/>
                </a:solidFill>
                <a:latin typeface="Georgia"/>
              </a:rPr>
              <a:t>условное изображение подвижных элемен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кинематика"/>
          <p:cNvPicPr/>
          <p:nvPr/>
        </p:nvPicPr>
        <p:blipFill>
          <a:blip r:embed="rId1"/>
          <a:stretch/>
        </p:blipFill>
        <p:spPr>
          <a:xfrm>
            <a:off x="304920" y="1219320"/>
            <a:ext cx="2970000" cy="3429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Untitled-Scanned-01"/>
          <p:cNvPicPr/>
          <p:nvPr/>
        </p:nvPicPr>
        <p:blipFill>
          <a:blip r:embed="rId2"/>
          <a:stretch/>
        </p:blipFill>
        <p:spPr>
          <a:xfrm>
            <a:off x="1447920" y="4800600"/>
            <a:ext cx="2743200" cy="1747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Untitled-Scanned-04"/>
          <p:cNvPicPr/>
          <p:nvPr/>
        </p:nvPicPr>
        <p:blipFill>
          <a:blip r:embed="rId3"/>
          <a:stretch/>
        </p:blipFill>
        <p:spPr>
          <a:xfrm>
            <a:off x="5410080" y="1295280"/>
            <a:ext cx="3159360" cy="1833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Untitled-Scanned-05"/>
          <p:cNvPicPr/>
          <p:nvPr/>
        </p:nvPicPr>
        <p:blipFill>
          <a:blip r:embed="rId4"/>
          <a:stretch/>
        </p:blipFill>
        <p:spPr>
          <a:xfrm>
            <a:off x="5105520" y="4038480"/>
            <a:ext cx="3647880" cy="18036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2"/>
          <p:cNvSpPr/>
          <p:nvPr/>
        </p:nvSpPr>
        <p:spPr>
          <a:xfrm>
            <a:off x="2819520" y="3733920"/>
            <a:ext cx="43434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3"/>
          <p:cNvSpPr/>
          <p:nvPr/>
        </p:nvSpPr>
        <p:spPr>
          <a:xfrm>
            <a:off x="2518200" y="6171480"/>
            <a:ext cx="24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нтовая переда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4"/>
          <p:cNvSpPr/>
          <p:nvPr/>
        </p:nvSpPr>
        <p:spPr>
          <a:xfrm>
            <a:off x="5869800" y="3199680"/>
            <a:ext cx="22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ечная переда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5"/>
          <p:cNvSpPr/>
          <p:nvPr/>
        </p:nvSpPr>
        <p:spPr>
          <a:xfrm>
            <a:off x="5412240" y="5942880"/>
            <a:ext cx="24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мённая переда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trudovik45.ucoz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580920" y="380880"/>
            <a:ext cx="52578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На предприятиях сверлильные станки обслуживают </a:t>
            </a:r>
            <a:r>
              <a:rPr b="1" i="1" lang="ru-RU" sz="2400" spc="-1" strike="noStrike">
                <a:solidFill>
                  <a:srgbClr val="ff3300"/>
                </a:solidFill>
                <a:latin typeface="Georgia"/>
              </a:rPr>
              <a:t>сверловщики</a:t>
            </a:r>
            <a:r>
              <a:rPr b="0" i="1" lang="ru-RU" sz="2400" spc="-1" strike="noStrike">
                <a:solidFill>
                  <a:srgbClr val="ff3300"/>
                </a:solidFill>
                <a:latin typeface="Georg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3300"/>
                </a:solidFill>
                <a:uFillTx/>
                <a:latin typeface="Georgia"/>
              </a:rPr>
              <a:t>Они должны зн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устройство стан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уметь его налаживать и обслужива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выбирать правильную скорость сверления, уметь пользоваться различными приспособлениями для сверле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затачивать инструмент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разбираться в чертеж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Untitled-Scanned-06"/>
          <p:cNvPicPr/>
          <p:nvPr/>
        </p:nvPicPr>
        <p:blipFill>
          <a:blip r:embed="rId1"/>
          <a:stretch/>
        </p:blipFill>
        <p:spPr>
          <a:xfrm>
            <a:off x="457200" y="762120"/>
            <a:ext cx="27417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trudovik45.ucoz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Georgia"/>
              </a:rPr>
              <a:t>Правила техники безопасности при строган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91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Georgia"/>
              </a:rPr>
              <a:t>1</a:t>
            </a:r>
            <a:r>
              <a:rPr b="1" lang="ru-RU" sz="2400" spc="-1" strike="noStrike">
                <a:solidFill>
                  <a:srgbClr val="ff3300"/>
                </a:solidFill>
                <a:latin typeface="Georgia"/>
              </a:rPr>
              <a:t>.   </a:t>
            </a:r>
            <a:r>
              <a:rPr b="0" lang="ru-RU" sz="2400" spc="-1" strike="noStrike">
                <a:solidFill>
                  <a:srgbClr val="ff3300"/>
                </a:solidFill>
                <a:latin typeface="Georgia"/>
              </a:rPr>
              <a:t>Работать на станке только с разрешения учи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Georgia"/>
              </a:rPr>
              <a:t>2. Одежду застегнуть на все пуговицы, надеть защитные о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Georgia"/>
              </a:rPr>
              <a:t>3.   Проверить надежность крепления патрона на шпинделе, сверла — в патроне, заготовки — в тис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Georgia"/>
              </a:rPr>
              <a:t>4.   Не отходить от станка, не выключив 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Georgia"/>
              </a:rPr>
              <a:t>5.   После   окончания   сверления   не   останавливать   патрон рукой, не убирать заготовку до полной остановки свер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Georgia"/>
              </a:rPr>
              <a:t>6.   В случае отключения электрического тока немедленно нажать кнопку «Стоп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Georgia"/>
              </a:rPr>
              <a:t>7.   Очищать станок только после его выключения, пользуясь щеткой-смет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trudovik45.ucoz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28600" y="6094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Georgia"/>
              </a:rPr>
              <a:t>Практическа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«</a:t>
            </a:r>
            <a:r>
              <a:rPr b="0" i="1" lang="ru-RU" sz="4800" spc="-1" strike="noStrike">
                <a:solidFill>
                  <a:srgbClr val="ff3300"/>
                </a:solidFill>
                <a:latin typeface="Georgia"/>
              </a:rPr>
              <a:t>Сверление отверсти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3300"/>
                </a:solidFill>
                <a:latin typeface="Georgia"/>
              </a:rPr>
              <a:t>в бойке киянки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trudovik45.ucoz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181120" y="456840"/>
            <a:ext cx="396252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Georgia"/>
              </a:rPr>
              <a:t>Технологическая кар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Georgia"/>
              </a:rPr>
              <a:t>«</a:t>
            </a:r>
            <a:r>
              <a:rPr b="0" i="1" lang="ru-RU" sz="2800" spc="-1" strike="noStrike">
                <a:solidFill>
                  <a:srgbClr val="ff3300"/>
                </a:solidFill>
                <a:latin typeface="Georgia"/>
              </a:rPr>
              <a:t>Сверление отверстия в бойке киян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80" descr="IMG_0658"/>
          <p:cNvPicPr/>
          <p:nvPr/>
        </p:nvPicPr>
        <p:blipFill>
          <a:blip r:embed="rId1"/>
          <a:stretch/>
        </p:blipFill>
        <p:spPr>
          <a:xfrm>
            <a:off x="5715000" y="3809880"/>
            <a:ext cx="3144960" cy="2359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82" descr="тех карта2"/>
          <p:cNvPicPr/>
          <p:nvPr/>
        </p:nvPicPr>
        <p:blipFill>
          <a:blip r:embed="rId2"/>
          <a:stretch/>
        </p:blipFill>
        <p:spPr>
          <a:xfrm>
            <a:off x="304920" y="304920"/>
            <a:ext cx="4962240" cy="63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trudovik45.ucoz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Georgia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Georgia"/>
              </a:rPr>
              <a:t>Используя записи в тетради, определи количество основных частей станка и  продолжи заполнять следующую таблиц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дз"/>
          <p:cNvPicPr/>
          <p:nvPr/>
        </p:nvPicPr>
        <p:blipFill>
          <a:blip r:embed="rId1"/>
          <a:stretch/>
        </p:blipFill>
        <p:spPr>
          <a:xfrm>
            <a:off x="228600" y="3505320"/>
            <a:ext cx="868680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trudovik45.ucoz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Georgia"/>
              </a:rPr>
              <a:t>г. Белгор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Georgia"/>
              </a:rPr>
              <a:t>МОУ СОШ №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Georgia"/>
              </a:rPr>
              <a:t>trudovik</a:t>
            </a:r>
            <a:r>
              <a:rPr b="0" lang="ru-RU" sz="2000" spc="-1" strike="noStrike">
                <a:solidFill>
                  <a:srgbClr val="ff3300"/>
                </a:solidFill>
                <a:latin typeface="Georgia"/>
              </a:rPr>
              <a:t>45.</a:t>
            </a:r>
            <a:r>
              <a:rPr b="0" lang="en-US" sz="2000" spc="-1" strike="noStrike">
                <a:solidFill>
                  <a:srgbClr val="ff3300"/>
                </a:solidFill>
                <a:latin typeface="Georgia"/>
              </a:rPr>
              <a:t>ucoz</a:t>
            </a:r>
            <a:r>
              <a:rPr b="0" lang="ru-RU" sz="2000" spc="-1" strike="noStrike">
                <a:solidFill>
                  <a:srgbClr val="ff3300"/>
                </a:solidFill>
                <a:latin typeface="Georgia"/>
              </a:rPr>
              <a:t>.</a:t>
            </a:r>
            <a:r>
              <a:rPr b="0" lang="en-US" sz="2000" spc="-1" strike="noStrike">
                <a:solidFill>
                  <a:srgbClr val="ff3300"/>
                </a:solidFill>
                <a:latin typeface="Georgia"/>
              </a:rPr>
              <a:t>ru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trudovik45.ucoz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Тема:</a:t>
            </a:r>
            <a:r>
              <a:rPr b="1" lang="ru-RU" sz="3200" spc="-1" strike="noStrike">
                <a:solidFill>
                  <a:srgbClr val="ff3300"/>
                </a:solidFill>
                <a:latin typeface="Georgia"/>
              </a:rPr>
              <a:t>  Устройство и управление                                                         сверлильным станком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Georgia"/>
              </a:rPr>
              <a:t>Цел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Georgia"/>
              </a:rPr>
              <a:t>образовательная:</a:t>
            </a:r>
            <a:r>
              <a:rPr b="1" i="1" lang="ru-RU" sz="2800" spc="-1" strike="noStrike">
                <a:solidFill>
                  <a:srgbClr val="ff3300"/>
                </a:solidFill>
                <a:latin typeface="Georgia"/>
              </a:rPr>
              <a:t> Создать условия для изучения устройства сверлильного станка и формирования умений по управлению станком.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Georgia"/>
              </a:rPr>
              <a:t>развивающая:</a:t>
            </a:r>
            <a:r>
              <a:rPr b="1" i="1" lang="ru-RU" sz="2800" spc="-1" strike="noStrike">
                <a:solidFill>
                  <a:srgbClr val="ff3300"/>
                </a:solidFill>
                <a:latin typeface="Georgia"/>
              </a:rPr>
              <a:t> Способствовать развитию представления о видах технологических машин и способах обработки  материалов резань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Georgia"/>
              </a:rPr>
              <a:t>воспитательная</a:t>
            </a:r>
            <a:r>
              <a:rPr b="1" lang="ru-RU" sz="2800" spc="-1" strike="noStrike">
                <a:solidFill>
                  <a:srgbClr val="0000ff"/>
                </a:solidFill>
                <a:latin typeface="Georgia"/>
              </a:rPr>
              <a:t>:</a:t>
            </a:r>
            <a:r>
              <a:rPr b="1" lang="ru-RU" sz="2800" spc="-1" strike="noStrike">
                <a:solidFill>
                  <a:srgbClr val="ff3300"/>
                </a:solidFill>
                <a:latin typeface="Georgia"/>
              </a:rPr>
              <a:t>  Прививать навыки аккуратности, ответственности, умение работать в коллективе, стремление к соблюдению безопасных приёмов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trudovik45.ucoz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6" descr="Scan10101"/>
          <p:cNvPicPr/>
          <p:nvPr/>
        </p:nvPicPr>
        <p:blipFill>
          <a:blip r:embed="rId1"/>
          <a:stretch/>
        </p:blipFill>
        <p:spPr>
          <a:xfrm>
            <a:off x="6095880" y="1905120"/>
            <a:ext cx="2524320" cy="4572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456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Georgia"/>
              </a:rPr>
              <a:t>Устройство и управление сверлильным станк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3" descr="Scan10100"/>
          <p:cNvPicPr/>
          <p:nvPr/>
        </p:nvPicPr>
        <p:blipFill>
          <a:blip r:embed="rId2"/>
          <a:stretch/>
        </p:blipFill>
        <p:spPr>
          <a:xfrm>
            <a:off x="1143000" y="2286000"/>
            <a:ext cx="26352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trudovik45.ucoz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Georgia"/>
              </a:rPr>
              <a:t>     </a:t>
            </a:r>
            <a:r>
              <a:rPr b="1" i="1" lang="ru-RU" sz="3200" spc="-1" strike="noStrike">
                <a:solidFill>
                  <a:srgbClr val="0000ff"/>
                </a:solidFill>
                <a:latin typeface="Georgia"/>
              </a:rPr>
              <a:t>С</a:t>
            </a:r>
            <a:r>
              <a:rPr b="1" i="1" lang="ru-RU" sz="4000" spc="-1" strike="noStrike">
                <a:solidFill>
                  <a:srgbClr val="0000ff"/>
                </a:solidFill>
                <a:latin typeface="Georgia"/>
              </a:rPr>
              <a:t>верлильный станок</a:t>
            </a:r>
            <a:r>
              <a:rPr b="1" i="1" lang="ru-RU" sz="4000" spc="-1" strike="noStrike">
                <a:solidFill>
                  <a:srgbClr val="ff3300"/>
                </a:solidFill>
                <a:latin typeface="Georgia"/>
              </a:rPr>
              <a:t> – технологическая машина, предназначенная для выполнения и обработки отверстий</a:t>
            </a: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trudovik45.ucoz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Georgia"/>
              </a:rPr>
              <a:t>Устройство </a:t>
            </a:r>
            <a:br>
              <a:rPr sz="4000"/>
            </a:br>
            <a:r>
              <a:rPr b="1" lang="ru-RU" sz="4000" spc="-1" strike="noStrike">
                <a:solidFill>
                  <a:srgbClr val="ff3300"/>
                </a:solidFill>
                <a:latin typeface="Georgia"/>
              </a:rPr>
              <a:t>сверлильного ста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504960" y="1600200"/>
            <a:ext cx="5638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Georgia"/>
              </a:rPr>
              <a:t>Сверлильный станок, как и любая технологическая машина, состоит из следующих составных частей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Georgia"/>
              </a:rPr>
              <a:t>двигател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Georgia"/>
              </a:rPr>
              <a:t>рабочего орга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Georgia"/>
              </a:rPr>
              <a:t>передаточного механизма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Georgia"/>
              </a:rPr>
              <a:t>органов управл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Scan10100"/>
          <p:cNvPicPr/>
          <p:nvPr/>
        </p:nvPicPr>
        <p:blipFill>
          <a:blip r:embed="rId1"/>
          <a:stretch/>
        </p:blipFill>
        <p:spPr>
          <a:xfrm>
            <a:off x="228600" y="1371600"/>
            <a:ext cx="3127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trudovik45.ucoz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Georgia"/>
              </a:rPr>
              <a:t>Устройство </a:t>
            </a:r>
            <a:br>
              <a:rPr sz="4000"/>
            </a:br>
            <a:r>
              <a:rPr b="1" lang="ru-RU" sz="4000" spc="-1" strike="noStrike">
                <a:solidFill>
                  <a:srgbClr val="ff3300"/>
                </a:solidFill>
                <a:latin typeface="Georgia"/>
              </a:rPr>
              <a:t>сверлильного ста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станок св цифрами"/>
          <p:cNvPicPr/>
          <p:nvPr/>
        </p:nvPicPr>
        <p:blipFill>
          <a:blip r:embed="rId1"/>
          <a:stretch/>
        </p:blipFill>
        <p:spPr>
          <a:xfrm>
            <a:off x="914400" y="1447920"/>
            <a:ext cx="7315200" cy="50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trudovik45.ucoz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Georgia"/>
              </a:rPr>
              <a:t>Устройство </a:t>
            </a:r>
            <a:br>
              <a:rPr sz="4000"/>
            </a:br>
            <a:r>
              <a:rPr b="1" lang="ru-RU" sz="4000" spc="-1" strike="noStrike">
                <a:solidFill>
                  <a:srgbClr val="ff3300"/>
                </a:solidFill>
                <a:latin typeface="Georgia"/>
              </a:rPr>
              <a:t>сверлильного ста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станок св с ообозначениями"/>
          <p:cNvPicPr/>
          <p:nvPr/>
        </p:nvPicPr>
        <p:blipFill>
          <a:blip r:embed="rId1"/>
          <a:stretch/>
        </p:blipFill>
        <p:spPr>
          <a:xfrm>
            <a:off x="762120" y="1371600"/>
            <a:ext cx="769608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trudovik45.ucoz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IMG_0663"/>
          <p:cNvPicPr/>
          <p:nvPr/>
        </p:nvPicPr>
        <p:blipFill>
          <a:blip r:embed="rId1"/>
          <a:stretch/>
        </p:blipFill>
        <p:spPr>
          <a:xfrm>
            <a:off x="4495680" y="762120"/>
            <a:ext cx="4343400" cy="217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34286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Georgia"/>
              </a:rPr>
              <a:t>Основным инструментом сверлильного станка является сверл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Georgia"/>
              </a:rPr>
              <a:t>Для того чтобы сверло резало материал, оно должно вращаться и перемещаться вдоль оси будущего отверст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1" descr="IMG_0666"/>
          <p:cNvPicPr/>
          <p:nvPr/>
        </p:nvPicPr>
        <p:blipFill>
          <a:blip r:embed="rId2"/>
          <a:stretch/>
        </p:blipFill>
        <p:spPr>
          <a:xfrm>
            <a:off x="533520" y="762120"/>
            <a:ext cx="370656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trudovik45.ucoz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Georgia"/>
              </a:rPr>
              <a:t>При работе сверлильного станка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Georgia"/>
              </a:rPr>
              <a:t>осуществляется два  основных движения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Georgia"/>
              </a:rPr>
              <a:t>вращения шпинде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Georgia"/>
              </a:rPr>
              <a:t>и его поступательное перемещение в вертикальном направлении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800" spc="-1" strike="noStrike">
                <a:solidFill>
                  <a:srgbClr val="0000ff"/>
                </a:solidFill>
                <a:latin typeface="Georgia"/>
              </a:rPr>
              <a:t>Вращение шпинделя называют  главным движением, или движением резания а его поступательное  перемещение – движением пода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Untitled-Scanned-09"/>
          <p:cNvPicPr/>
          <p:nvPr/>
        </p:nvPicPr>
        <p:blipFill>
          <a:blip r:embed="rId1"/>
          <a:stretch/>
        </p:blipFill>
        <p:spPr>
          <a:xfrm>
            <a:off x="2362320" y="3657600"/>
            <a:ext cx="44989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man</cp:lastModifiedBy>
  <dcterms:modified xsi:type="dcterms:W3CDTF">2009-03-10T13:26:47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